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24.wmf" ContentType="image/x-wmf"/>
  <Override PartName="/ppt/media/image23.wmf" ContentType="image/x-wmf"/>
  <Override PartName="/ppt/media/image28.jpeg" ContentType="image/jpeg"/>
  <Override PartName="/ppt/media/image22.wmf" ContentType="image/x-wmf"/>
  <Override PartName="/ppt/media/image20.wmf" ContentType="image/x-wmf"/>
  <Override PartName="/ppt/media/image32.jpeg" ContentType="image/jpeg"/>
  <Override PartName="/ppt/media/image21.wmf" ContentType="image/x-wmf"/>
  <Override PartName="/ppt/media/image18.png" ContentType="image/png"/>
  <Override PartName="/ppt/media/image19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41.jpeg" ContentType="image/jpeg"/>
  <Override PartName="/ppt/media/image1.jpeg" ContentType="image/jpeg"/>
  <Override PartName="/ppt/media/image9.wmf" ContentType="image/x-wmf"/>
  <Override PartName="/ppt/media/image42.jpeg" ContentType="image/jpeg"/>
  <Override PartName="/ppt/media/image35.png" ContentType="image/png"/>
  <Override PartName="/ppt/media/image43.jpeg" ContentType="image/jpeg"/>
  <Override PartName="/ppt/media/image36.jpeg" ContentType="image/jpeg"/>
  <Override PartName="/ppt/media/image37.jpeg" ContentType="image/jpeg"/>
  <Override PartName="/ppt/media/image8.wmf" ContentType="image/x-wmf"/>
  <Override PartName="/ppt/media/image38.jpeg" ContentType="image/jpeg"/>
  <Override PartName="/ppt/media/image12.jpeg" ContentType="image/jpeg"/>
  <Override PartName="/ppt/media/image34.png" ContentType="image/png"/>
  <Override PartName="/ppt/media/image40.jpeg" ContentType="image/jpeg"/>
  <Override PartName="/ppt/media/image44.jpeg" ContentType="image/jpeg"/>
  <Override PartName="/ppt/media/image33.jpeg" ContentType="image/jpeg"/>
  <Override PartName="/ppt/media/image5.wmf" ContentType="image/x-wmf"/>
  <Override PartName="/ppt/media/image39.jpeg" ContentType="image/jpeg"/>
  <Override PartName="/ppt/media/image4.wmf" ContentType="image/x-wmf"/>
  <Override PartName="/ppt/media/image30.jpeg" ContentType="image/jpeg"/>
  <Override PartName="/ppt/media/image7.wmf" ContentType="image/x-wmf"/>
  <Override PartName="/ppt/media/image11.wmf" ContentType="image/x-wmf"/>
  <Override PartName="/ppt/media/image26.png" ContentType="image/png"/>
  <Override PartName="/ppt/media/image6.wmf" ContentType="image/x-wmf"/>
  <Override PartName="/ppt/media/image31.jpeg" ContentType="image/jpeg"/>
  <Override PartName="/ppt/media/image10.wmf" ContentType="image/x-wmf"/>
  <Override PartName="/ppt/media/image25.jpeg" ContentType="image/jpeg"/>
  <Override PartName="/ppt/media/image27.jpeg" ContentType="image/jpeg"/>
  <Override PartName="/ppt/media/image13.wmf" ContentType="image/x-wmf"/>
  <Override PartName="/ppt/media/image29.jpeg" ContentType="image/jpeg"/>
  <Override PartName="/ppt/media/image3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72DE4-A53B-454B-B726-8F8D51103A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6327E-ADDC-4FFE-9731-1C14AABE659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joijoijoijioijoijoijo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A0B38-301B-4C2E-AA86-2CA5C901E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D3CCA-51A4-4132-89C1-7CBCF2DFE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AD47C-830E-4A7B-B415-CEE0516E0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37022-9D6A-4AB7-A945-DA188CEF4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70029-59C0-48D9-A4BB-499AC046F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14C29-2F89-4252-AD81-50191980C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D7F84-7AA8-4341-8AF2-285E0FC66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83A90-211D-4A7E-868C-6994AF704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818E1-36CD-4F9C-88EE-2E406F732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0F51C-818F-4D8C-8D8E-0BE5FC686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88D81-FD91-494A-AD89-96B7C2C45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7FA56-B2FF-44C8-BE16-3D72C4C33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6F8CF-3966-4A29-8DB3-5AB7EE11B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B8C63-3417-4784-8A80-9341B4323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EEF85-0675-4FC2-8D77-AE6922955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2D835-69B4-4ED4-93EA-4E804F37D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9945B-3F22-426C-B295-C7CB9320D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83DEBE-8A05-4BEB-B4CC-EEC7AE565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E04A96-647E-4E1B-A706-7BA23D875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8BD507-AE42-4745-B742-C675E5795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78CD1C-7A34-4BBB-96C6-EE5D389B5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04FF1C-982E-4DCE-A83D-A7D080A68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353D3-D3FB-46B5-839F-D7E1B3E09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8533CD-9772-4FE6-8912-CF9554519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560E92-1025-493C-8119-8996CD541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8A47D2-09B8-4047-967E-3811D9AB5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AC5CD9-D01B-4269-A66D-F622B991E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027D4E-CCC1-4B43-BAB7-C5E7766FA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02564C-1B79-4E3C-8753-9357E6D79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3B3324-69BE-4490-910F-BA8F8F93B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861CF7-11B4-4863-97EB-AF037D276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547EDB-D437-4E7C-AD8C-8231D24B4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ABC440-BDC8-49EC-B85E-1731C87BA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51769-8C0A-464D-A64D-9E3DF1ED1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DEDA34-52FA-49F8-9734-D3D94927E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FFFF88-3E47-41FC-B1BE-A817AA4A6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AA6D8E-6463-41F5-B1D8-26BA512D4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973527-FCB1-49EF-A61B-342D97C62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37E007-EB72-43D9-9E4C-43FA19363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6980C6-F83F-42E1-9240-4B567AFE0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6184F6-8E56-427E-9ED9-FDA93DDE2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CCB3EB-A0E7-4178-96B8-A62843267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6D1003-A8AA-40F6-848F-AAFC82C99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4C31CE-9B58-431C-B5FE-55500320D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703F6-63A1-4EBE-B75E-3DF2CDE4B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FACB57-0E66-48EC-A1C7-A8819F673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A8227C-20B9-4F11-AE7B-8B5234B34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981D28-17D9-4472-AC77-8B77E9748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F59A47-CC24-4FD4-82C7-13BB562C0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E4324B-61D9-4655-9A50-04AB63FA3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4A68E7-1AB6-47D4-81D2-833D7FB8A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34E9F3-28A7-40A4-A7D4-B93DF80C0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40780A-FF55-4899-81C1-2C0100120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A0151F-9278-427A-9ECF-4EDEA64BD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0AE822-C12B-4A85-BD9D-40D4ECC43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237C4-A3EC-48F2-B5D7-447214F2C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C85AA0-B94B-45D2-B74A-6CA9F5FCD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021B0-FBCB-44CC-ABDE-ED3C1C1C2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BA3AE-45BC-4153-9D29-D0DFF5207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9B4A3-6074-49DF-8C2A-E0BEDCBC9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4ADEA-165C-407A-ABD0-E23E3D15B50A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BD185-BB05-4B83-8768-FDF435CB9D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" name="Group 2"/>
          <p:cNvGrpSpPr/>
          <p:nvPr/>
        </p:nvGrpSpPr>
        <p:grpSpPr>
          <a:xfrm>
            <a:off x="6273360" y="-21240"/>
            <a:ext cx="2870280" cy="3275280"/>
            <a:chOff x="6273360" y="-21240"/>
            <a:chExt cx="2870280" cy="3275280"/>
          </a:xfrm>
        </p:grpSpPr>
        <p:grpSp>
          <p:nvGrpSpPr>
            <p:cNvPr id="118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119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Oval 5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1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122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Oval 8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4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125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" name="Oval 11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7" name="Group 12"/>
            <p:cNvGrpSpPr/>
            <p:nvPr/>
          </p:nvGrpSpPr>
          <p:grpSpPr>
            <a:xfrm>
              <a:off x="6273360" y="-21240"/>
              <a:ext cx="2870280" cy="2268360"/>
              <a:chOff x="6273360" y="-21240"/>
              <a:chExt cx="2870280" cy="2268360"/>
            </a:xfrm>
          </p:grpSpPr>
          <p:grpSp>
            <p:nvGrpSpPr>
              <p:cNvPr id="128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9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Oval 15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" name="Group 16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32" name="Group 17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33" name="Freeform 18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4" name="Freeform 19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35" name="Group 20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36" name="Freeform 21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7" name="Freeform 22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38" name="Group 23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139" name="Freeform 24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0" name="Freeform 25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41" name="Group 26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142" name="Freeform 27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3" name="Freeform 28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44" name="Group 29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145" name="Freeform 30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6" name="Freeform 31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47" name="Group 32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148" name="Freeform 33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9" name="Freeform 34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50" name="Group 35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151" name="Freeform 36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2" name="Freeform 37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53" name="Group 38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154" name="Freeform 39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5" name="Freeform 40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56" name="Group 41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157" name="Freeform 42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8" name="Freeform 43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59" name="Group 44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160" name="Freeform 45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1" name="Freeform 46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62" name="Group 47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163" name="Freeform 48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4" name="Freeform 49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65" name="Group 50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166" name="Freeform 51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7" name="Freeform 52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68" name="Group 53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169" name="Freeform 54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0" name="Freeform 55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71" name="Group 56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172" name="Freeform 57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3" name="Freeform 58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74" name="Group 59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175" name="Freeform 60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6" name="Freeform 61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77" name="Group 62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178" name="Freeform 63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9" name="Freeform 64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80" name="Group 65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181" name="Freeform 66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2" name="Freeform 67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83" name="Group 68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184" name="Freeform 69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5" name="Freeform 70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86" name="Group 71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187" name="Freeform 72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8" name="Freeform 73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89" name="Group 74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190" name="Freeform 75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1" name="Freeform 76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92" name="Group 77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193" name="Freeform 78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4" name="Freeform 79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95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Freeform 81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97" name="Group 82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198" name="Freeform 83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9" name="Freeform 84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00" name="Group 85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201" name="Freeform 86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Freeform 87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03" name="Group 88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204" name="Freeform 89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80" bIns="-288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5" name="Freeform 90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06" name="Group 91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207" name="Freeform 92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8" name="Freeform 93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09" name="Group 94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210" name="Freeform 95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1" name="Freeform 96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12" name="Group 97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213" name="Freeform 98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4" name="Freeform 99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15" name="Group 100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216" name="Freeform 101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7" name="Freeform 102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18" name="Group 103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219" name="Freeform 104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0" name="Freeform 105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21" name="Group 106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222" name="Freeform 107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Freeform 108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24" name="Group 109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225" name="Freeform 110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6" name="Freeform 111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27" name="Group 112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228" name="Freeform 113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9" name="Freeform 114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230" name="Freeform 115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1" name="Arc 116"/>
              <p:cNvSpPr/>
              <p:nvPr/>
            </p:nvSpPr>
            <p:spPr>
              <a:xfrm flipH="1">
                <a:off x="6844680" y="950040"/>
                <a:ext cx="1090080" cy="118188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2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custGeom>
                <a:avLst/>
                <a:gdLst/>
                <a:ahLst/>
                <a:rect l="l" t="t" r="r" b="b"/>
                <a:pathLst>
                  <a:path fill="none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</a:path>
                  <a:path stroke="0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  <a:lnTo>
                      <a:pt x="17826" y="0"/>
                    </a:lnTo>
                    <a:lnTo>
                      <a:pt x="36729" y="1045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3" name="Arc 118"/>
              <p:cNvSpPr/>
              <p:nvPr/>
            </p:nvSpPr>
            <p:spPr>
              <a:xfrm flipH="1">
                <a:off x="6954480" y="759240"/>
                <a:ext cx="637200" cy="122112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4" name="Arc 119"/>
              <p:cNvSpPr/>
              <p:nvPr/>
            </p:nvSpPr>
            <p:spPr>
              <a:xfrm flipH="1">
                <a:off x="6502320" y="821880"/>
                <a:ext cx="1035000" cy="1219680"/>
              </a:xfrm>
              <a:custGeom>
                <a:avLst/>
                <a:gdLst/>
                <a:ahLst/>
                <a:rect l="l" t="t" r="r" b="b"/>
                <a:pathLst>
                  <a:path fill="none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</a:path>
                  <a:path stroke="0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  <a:lnTo>
                      <a:pt x="8873" y="21600"/>
                    </a:lnTo>
                    <a:lnTo>
                      <a:pt x="-1" y="1906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6" name="Arc 121"/>
              <p:cNvSpPr/>
              <p:nvPr/>
            </p:nvSpPr>
            <p:spPr>
              <a:xfrm>
                <a:off x="7761960" y="770760"/>
                <a:ext cx="19476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7" name="Arc 122"/>
              <p:cNvSpPr/>
              <p:nvPr/>
            </p:nvSpPr>
            <p:spPr>
              <a:xfrm>
                <a:off x="7813080" y="765720"/>
                <a:ext cx="51552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8" name="Arc 123"/>
              <p:cNvSpPr/>
              <p:nvPr/>
            </p:nvSpPr>
            <p:spPr>
              <a:xfrm>
                <a:off x="7858800" y="605880"/>
                <a:ext cx="73152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9" name="Freeform 124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0" name="Freeform 125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1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custGeom>
                <a:avLst/>
                <a:gdLst/>
                <a:ahLst/>
                <a:rect l="l" t="t" r="r" b="b"/>
                <a:pathLst>
                  <a:path fill="none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</a:path>
                  <a:path stroke="0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  <a:lnTo>
                      <a:pt x="15230" y="21600"/>
                    </a:lnTo>
                    <a:lnTo>
                      <a:pt x="0" y="6283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2" name="Arc 127"/>
              <p:cNvSpPr/>
              <p:nvPr/>
            </p:nvSpPr>
            <p:spPr>
              <a:xfrm flipH="1">
                <a:off x="6708960" y="160560"/>
                <a:ext cx="948600" cy="1181880"/>
              </a:xfrm>
              <a:custGeom>
                <a:avLst/>
                <a:gdLst/>
                <a:ahLst/>
                <a:rect l="l" t="t" r="r" b="b"/>
                <a:pathLst>
                  <a:path fill="none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</a:path>
                  <a:path stroke="0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  <a:lnTo>
                      <a:pt x="18231" y="21600"/>
                    </a:lnTo>
                    <a:lnTo>
                      <a:pt x="-1" y="1001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3" name="Arc 128"/>
              <p:cNvSpPr/>
              <p:nvPr/>
            </p:nvSpPr>
            <p:spPr>
              <a:xfrm>
                <a:off x="7722360" y="657000"/>
                <a:ext cx="391320" cy="1182960"/>
              </a:xfrm>
              <a:custGeom>
                <a:avLst/>
                <a:gdLst/>
                <a:ahLst/>
                <a:rect l="l" t="t" r="r" b="b"/>
                <a:pathLst>
                  <a:path fill="none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</a:path>
                  <a:path stroke="0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4" name="Freeform 129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5" name="Freeform 130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6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7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8" name="Freeform 133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9" name="Freeform 134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0" name="Freeform 135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1" name="Freeform 136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0A095-2658-4064-8966-406B4F839646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3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294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10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11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12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40AA9-928E-404C-8129-64EA3C924AFA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9" name="Group 2"/>
          <p:cNvGrpSpPr/>
          <p:nvPr/>
        </p:nvGrpSpPr>
        <p:grpSpPr>
          <a:xfrm>
            <a:off x="2010960" y="245520"/>
            <a:ext cx="6896160" cy="5452200"/>
            <a:chOff x="2010960" y="245520"/>
            <a:chExt cx="6896160" cy="5452200"/>
          </a:xfrm>
        </p:grpSpPr>
        <p:grpSp>
          <p:nvGrpSpPr>
            <p:cNvPr id="370" name="Group 3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371" name="Oval 4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2" name="Oval 5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73" name="Group 6"/>
            <p:cNvGrpSpPr/>
            <p:nvPr/>
          </p:nvGrpSpPr>
          <p:grpSpPr>
            <a:xfrm>
              <a:off x="2010960" y="245520"/>
              <a:ext cx="6896160" cy="5452200"/>
              <a:chOff x="2010960" y="245520"/>
              <a:chExt cx="6896160" cy="5452200"/>
            </a:xfrm>
          </p:grpSpPr>
          <p:grpSp>
            <p:nvGrpSpPr>
              <p:cNvPr id="374" name="Group 7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375" name="Group 8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376" name="Oval 9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7" name="Oval 10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78" name="Group 11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379" name="Group 12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380" name="Freeform 13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1" name="Freeform 14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82" name="Group 15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383" name="Freeform 16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4" name="Freeform 17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85" name="Group 18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386" name="Freeform 19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7" name="Freeform 20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88" name="Group 21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389" name="Freeform 22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0" name="Freeform 23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1" name="Group 24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392" name="Freeform 25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3" name="Freeform 26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4" name="Group 27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395" name="Freeform 28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6" name="Freeform 29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7" name="Group 30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398" name="Freeform 31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9" name="Freeform 32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0" name="Group 33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401" name="Freeform 34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2" name="Freeform 35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3" name="Group 36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404" name="Freeform 37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5" name="Freeform 38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6" name="Group 39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407" name="Freeform 40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8" name="Freeform 41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9" name="Group 42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410" name="Freeform 43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1" name="Freeform 44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2" name="Group 45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413" name="Freeform 46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4" name="Freeform 47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5" name="Group 48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416" name="Freeform 49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7" name="Freeform 50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8" name="Group 51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419" name="Freeform 52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0" name="Freeform 53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1" name="Group 54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422" name="Freeform 55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3" name="Freeform 56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4" name="Group 57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425" name="Freeform 58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6" name="Freeform 59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7" name="Group 60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428" name="Freeform 61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9" name="Freeform 62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30" name="Group 63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431" name="Freeform 64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2" name="Freeform 65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33" name="Group 66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434" name="Freeform 67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5" name="Freeform 68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36" name="Group 69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437" name="Freeform 70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8" name="Freeform 71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39" name="Group 72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440" name="Freeform 73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41" name="Freeform 74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442" name="Freeform 75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3" name="Freeform 76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444" name="Group 77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445" name="Freeform 78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46" name="Freeform 79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47" name="Group 80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448" name="Freeform 81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49" name="Freeform 82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50" name="Group 83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451" name="Freeform 84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52" name="Freeform 85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53" name="Group 86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454" name="Freeform 87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55" name="Freeform 88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56" name="Group 89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457" name="Freeform 90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58" name="Freeform 91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59" name="Group 92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460" name="Freeform 93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1" name="Freeform 94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62" name="Group 95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463" name="Freeform 96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4" name="Freeform 97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65" name="Group 98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466" name="Freeform 99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7" name="Freeform 100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68" name="Group 101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469" name="Freeform 102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70" name="Freeform 103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71" name="Group 104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472" name="Freeform 105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73" name="Freeform 106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74" name="Group 107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475" name="Freeform 108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76" name="Freeform 109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477" name="Group 110"/>
              <p:cNvGrpSpPr/>
              <p:nvPr/>
            </p:nvGrpSpPr>
            <p:grpSpPr>
              <a:xfrm>
                <a:off x="2175480" y="682560"/>
                <a:ext cx="6731640" cy="4521240"/>
                <a:chOff x="2175480" y="682560"/>
                <a:chExt cx="6731640" cy="4521240"/>
              </a:xfrm>
            </p:grpSpPr>
            <p:grpSp>
              <p:nvGrpSpPr>
                <p:cNvPr id="478" name="Group 111"/>
                <p:cNvGrpSpPr/>
                <p:nvPr/>
              </p:nvGrpSpPr>
              <p:grpSpPr>
                <a:xfrm>
                  <a:off x="2175480" y="682560"/>
                  <a:ext cx="6731640" cy="4521240"/>
                  <a:chOff x="2175480" y="682560"/>
                  <a:chExt cx="6731640" cy="4521240"/>
                </a:xfrm>
              </p:grpSpPr>
              <p:sp>
                <p:nvSpPr>
                  <p:cNvPr id="479" name="Arc 112"/>
                  <p:cNvSpPr/>
                  <p:nvPr/>
                </p:nvSpPr>
                <p:spPr>
                  <a:xfrm flipV="1">
                    <a:off x="5741640" y="857880"/>
                    <a:ext cx="3165480" cy="25225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</a:path>
                      <a:path stroke="0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  <a:lnTo>
                          <a:pt x="17826" y="0"/>
                        </a:lnTo>
                        <a:lnTo>
                          <a:pt x="36729" y="1045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0" name="Arc 113"/>
                  <p:cNvSpPr/>
                  <p:nvPr/>
                </p:nvSpPr>
                <p:spPr>
                  <a:xfrm flipH="1">
                    <a:off x="2561760" y="2270520"/>
                    <a:ext cx="2485800" cy="2933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</a:path>
                      <a:path stroke="0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  <a:lnTo>
                          <a:pt x="8873" y="21600"/>
                        </a:lnTo>
                        <a:lnTo>
                          <a:pt x="-1" y="1906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1" name="Arc 114"/>
                  <p:cNvSpPr/>
                  <p:nvPr/>
                </p:nvSpPr>
                <p:spPr>
                  <a:xfrm>
                    <a:off x="5819400" y="1752840"/>
                    <a:ext cx="1758240" cy="2933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</a:path>
                      <a:path stroke="0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2" name="Arc 115"/>
                  <p:cNvSpPr/>
                  <p:nvPr/>
                </p:nvSpPr>
                <p:spPr>
                  <a:xfrm flipH="1">
                    <a:off x="2175480" y="1298880"/>
                    <a:ext cx="3132000" cy="2933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</a:path>
                      <a:path stroke="0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  <a:lnTo>
                          <a:pt x="15230" y="21600"/>
                        </a:lnTo>
                        <a:lnTo>
                          <a:pt x="0" y="6283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3" name="Arc 116"/>
                  <p:cNvSpPr/>
                  <p:nvPr/>
                </p:nvSpPr>
                <p:spPr>
                  <a:xfrm flipH="1">
                    <a:off x="3058560" y="682560"/>
                    <a:ext cx="2280960" cy="2840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</a:path>
                      <a:path stroke="0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  <a:lnTo>
                          <a:pt x="18231" y="21600"/>
                        </a:lnTo>
                        <a:lnTo>
                          <a:pt x="-1" y="10015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4" name="Arc 117"/>
                  <p:cNvSpPr/>
                  <p:nvPr/>
                </p:nvSpPr>
                <p:spPr>
                  <a:xfrm>
                    <a:off x="5491080" y="1875960"/>
                    <a:ext cx="941760" cy="2840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</a:path>
                      <a:path stroke="0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5" name="Freeform 118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86" name="Freeform 119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87" name="Group 120"/>
            <p:cNvGrpSpPr/>
            <p:nvPr/>
          </p:nvGrpSpPr>
          <p:grpSpPr>
            <a:xfrm>
              <a:off x="2342880" y="712800"/>
              <a:ext cx="6410160" cy="4708080"/>
              <a:chOff x="2342880" y="712800"/>
              <a:chExt cx="6410160" cy="4708080"/>
            </a:xfrm>
          </p:grpSpPr>
          <p:sp>
            <p:nvSpPr>
              <p:cNvPr id="488" name="Freeform 121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9" name="Arc 122"/>
              <p:cNvSpPr/>
              <p:nvPr/>
            </p:nvSpPr>
            <p:spPr>
              <a:xfrm flipH="1">
                <a:off x="3384000" y="2579760"/>
                <a:ext cx="2616480" cy="284112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0" name="Arc 123"/>
              <p:cNvSpPr/>
              <p:nvPr/>
            </p:nvSpPr>
            <p:spPr>
              <a:xfrm flipH="1">
                <a:off x="3645360" y="2122200"/>
                <a:ext cx="1533600" cy="293400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1" name="Arc 124"/>
              <p:cNvSpPr/>
              <p:nvPr/>
            </p:nvSpPr>
            <p:spPr>
              <a:xfrm flipH="1">
                <a:off x="2342520" y="1737720"/>
                <a:ext cx="2930040" cy="293364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2" name="Arc 125"/>
              <p:cNvSpPr/>
              <p:nvPr/>
            </p:nvSpPr>
            <p:spPr>
              <a:xfrm>
                <a:off x="5586480" y="2150640"/>
                <a:ext cx="469800" cy="293400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3" name="Arc 126"/>
              <p:cNvSpPr/>
              <p:nvPr/>
            </p:nvSpPr>
            <p:spPr>
              <a:xfrm>
                <a:off x="5709960" y="2136960"/>
                <a:ext cx="1237680" cy="293400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4" name="Freeform 127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5" name="Freeform 128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6" name="Freeform 129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7" name="Freeform 130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8" name="Freeform 131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9" name="Freeform 132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0" name="Freeform 133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1" name="Freeform 134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0A48F-44F4-452F-B02F-4956582646F2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hyperlink" Target="http://en.wikipedia.org/wiki/Image:DavidSouter.jpg" TargetMode="External"/><Relationship Id="rId5" Type="http://schemas.openxmlformats.org/officeDocument/2006/relationships/image" Target="../media/image30.jpeg"/><Relationship Id="rId6" Type="http://schemas.openxmlformats.org/officeDocument/2006/relationships/hyperlink" Target="http://en.wikipedia.org/wiki/Image:Anthony_Kennedy_Official.jpg" TargetMode="External"/><Relationship Id="rId7" Type="http://schemas.openxmlformats.org/officeDocument/2006/relationships/image" Target="../media/image31.jpeg"/><Relationship Id="rId8" Type="http://schemas.openxmlformats.org/officeDocument/2006/relationships/image" Target="../media/image32.jpeg"/><Relationship Id="rId9" Type="http://schemas.openxmlformats.org/officeDocument/2006/relationships/hyperlink" Target="http://en.wikipedia.org/wiki/Image:Samuel_Alito_Court_of_Appeals_photo.jpg" TargetMode="External"/><Relationship Id="rId10" Type="http://schemas.openxmlformats.org/officeDocument/2006/relationships/image" Target="../media/image33.jpeg"/><Relationship Id="rId11" Type="http://schemas.openxmlformats.org/officeDocument/2006/relationships/image" Target="../media/image34.png"/><Relationship Id="rId12" Type="http://schemas.openxmlformats.org/officeDocument/2006/relationships/image" Target="../media/image35.png"/><Relationship Id="rId1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image" Target="../media/image15.wmf"/><Relationship Id="rId5" Type="http://schemas.openxmlformats.org/officeDocument/2006/relationships/image" Target="../media/image16.wmf"/><Relationship Id="rId6" Type="http://schemas.openxmlformats.org/officeDocument/2006/relationships/image" Target="../media/image17.wmf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image" Target="../media/image21.wmf"/><Relationship Id="rId5" Type="http://schemas.openxmlformats.org/officeDocument/2006/relationships/image" Target="../media/image22.wmf"/><Relationship Id="rId6" Type="http://schemas.openxmlformats.org/officeDocument/2006/relationships/image" Target="../media/image23.wmf"/><Relationship Id="rId7" Type="http://schemas.openxmlformats.org/officeDocument/2006/relationships/image" Target="../media/image24.wmf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8701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dbbd71"/>
                </a:solidFill>
                <a:latin typeface="Times New Roman"/>
              </a:rPr>
              <a:t>The Judicial Branch</a:t>
            </a:r>
            <a:endParaRPr b="0" lang="en-US" sz="4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87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P Political System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Times New Roman"/>
              </a:rPr>
              <a:t>Types of Federal Courts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2.) U.S. Courts of Appe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Created by Congress in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1891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to help lessen the work load of the Supreme Cour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Decide appeals from U.S. district courts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12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U.S. Court of Appeal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States are divided into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000" spc="-1" strike="noStrike" u="sng">
                <a:solidFill>
                  <a:srgbClr val="ffcc66"/>
                </a:solidFill>
                <a:uFillTx/>
                <a:latin typeface="Times New Roman"/>
                <a:hlinkClick r:id="rId1" action="ppaction://hlinksldjump"/>
              </a:rPr>
              <a:t>circuits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, or geographic judicial districts (not every state has one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Also a circuit for Washington, D.C. and a special appeals court with national jurisdiction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Have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appellate jurisdictio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ONLY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(May only review cases already decided by a lower court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Panel of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3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judges decide cases in the Courts of Appeal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Judges serve for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life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– nominated by President and confirmed by Senat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r"/>
  </p:transition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2" dur="500"/>
                                        <p:tgtEl>
                                          <p:spTgt spid="5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5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2" dur="500"/>
                                        <p:tgtEl>
                                          <p:spTgt spid="5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7" dur="500"/>
                                        <p:tgtEl>
                                          <p:spTgt spid="5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2" dur="500"/>
                                        <p:tgtEl>
                                          <p:spTgt spid="5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5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2" dur="500"/>
                                        <p:tgtEl>
                                          <p:spTgt spid="5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7" dur="500"/>
                                        <p:tgtEl>
                                          <p:spTgt spid="5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Times New Roman"/>
              </a:rPr>
              <a:t>U.S. Courts of Appeal Circuits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97" name="Picture 7" descr="image"/>
          <p:cNvPicPr/>
          <p:nvPr/>
        </p:nvPicPr>
        <p:blipFill>
          <a:blip r:embed="rId1"/>
          <a:stretch/>
        </p:blipFill>
        <p:spPr>
          <a:xfrm>
            <a:off x="914400" y="1371600"/>
            <a:ext cx="7391520" cy="52592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bbd71"/>
                </a:solidFill>
                <a:latin typeface="Times New Roman"/>
              </a:rPr>
              <a:t>Types of Federal Courts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3.) U.S. Supreme Co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Only court actually created directly by the Constitut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Highest court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in the federal judicial system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Final authority in dealing with questions arising from the Constitution, federal laws, and treati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Has both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original and appellate jurisdict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90%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of cases are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appeals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from lower federal court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Congress establishes the size of the Supreme Cour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Current size –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8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associate justices and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1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chief justic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Justices nominated by President of the U.S. and confirmed by Senat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Serve for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“life”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Times New Roman"/>
              </a:rPr>
              <a:t>U.S. Supreme Court Today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hief Justice John Roberts, Jr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Associate Justices: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349"/>
              </a:spcBef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ANTONIN SCALIA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349"/>
              </a:spcBef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ANTHONY M. KENNEDY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349"/>
              </a:spcBef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CLARENCE THOMA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349"/>
              </a:spcBef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RUTH BADER GINSBU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349"/>
              </a:spcBef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STEPHEN G. BREYER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349"/>
              </a:spcBef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SAMUEL A. ALITO, JR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349"/>
              </a:spcBef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SONIA SOTOMAYOR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349"/>
              </a:spcBef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ELENA KAGAN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2" name=""/>
          <p:cNvSpPr txBox="1"/>
          <p:nvPr/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03" name="Picture 9" descr="Ruth_Bader_Ginsburg_official_portrait"/>
          <p:cNvPicPr/>
          <p:nvPr/>
        </p:nvPicPr>
        <p:blipFill>
          <a:blip r:embed="rId1"/>
          <a:stretch/>
        </p:blipFill>
        <p:spPr>
          <a:xfrm>
            <a:off x="4592520" y="3686040"/>
            <a:ext cx="1122480" cy="1447920"/>
          </a:xfrm>
          <a:prstGeom prst="rect">
            <a:avLst/>
          </a:prstGeom>
          <a:ln w="0">
            <a:noFill/>
          </a:ln>
        </p:spPr>
      </p:pic>
      <p:pic>
        <p:nvPicPr>
          <p:cNvPr id="604" name="Picture 11" descr="Official_roberts_CJ"/>
          <p:cNvPicPr/>
          <p:nvPr/>
        </p:nvPicPr>
        <p:blipFill>
          <a:blip r:embed="rId2"/>
          <a:stretch/>
        </p:blipFill>
        <p:spPr>
          <a:xfrm>
            <a:off x="5715000" y="1371600"/>
            <a:ext cx="1646280" cy="2103480"/>
          </a:xfrm>
          <a:prstGeom prst="rect">
            <a:avLst/>
          </a:prstGeom>
          <a:ln w="0">
            <a:noFill/>
          </a:ln>
        </p:spPr>
      </p:pic>
      <p:pic>
        <p:nvPicPr>
          <p:cNvPr id="605" name="Picture 13" descr="Clarence_Thomas_official"/>
          <p:cNvPicPr/>
          <p:nvPr/>
        </p:nvPicPr>
        <p:blipFill>
          <a:blip r:embed="rId3"/>
          <a:stretch/>
        </p:blipFill>
        <p:spPr>
          <a:xfrm>
            <a:off x="5697360" y="3686040"/>
            <a:ext cx="1040040" cy="1447920"/>
          </a:xfrm>
          <a:prstGeom prst="rect">
            <a:avLst/>
          </a:prstGeom>
          <a:ln w="0">
            <a:noFill/>
          </a:ln>
        </p:spPr>
      </p:pic>
      <p:pic>
        <p:nvPicPr>
          <p:cNvPr id="606" name="Picture 15" descr="David Hackett Souter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7748640" y="3789360"/>
            <a:ext cx="1044360" cy="1219320"/>
          </a:xfrm>
          <a:prstGeom prst="rect">
            <a:avLst/>
          </a:prstGeom>
          <a:ln w="0">
            <a:noFill/>
          </a:ln>
        </p:spPr>
      </p:pic>
      <p:pic>
        <p:nvPicPr>
          <p:cNvPr id="607" name="Picture 17" descr="Anthony McLeod Kennedy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6629400" y="3675240"/>
            <a:ext cx="1066680" cy="1447560"/>
          </a:xfrm>
          <a:prstGeom prst="rect">
            <a:avLst/>
          </a:prstGeom>
          <a:ln w="0">
            <a:noFill/>
          </a:ln>
        </p:spPr>
      </p:pic>
      <p:pic>
        <p:nvPicPr>
          <p:cNvPr id="608" name="Picture 19" descr="AntoninScalia"/>
          <p:cNvPicPr/>
          <p:nvPr/>
        </p:nvPicPr>
        <p:blipFill>
          <a:blip r:embed="rId8"/>
          <a:stretch/>
        </p:blipFill>
        <p:spPr>
          <a:xfrm>
            <a:off x="4162320" y="5168880"/>
            <a:ext cx="990720" cy="1295280"/>
          </a:xfrm>
          <a:prstGeom prst="rect">
            <a:avLst/>
          </a:prstGeom>
          <a:ln w="0">
            <a:noFill/>
          </a:ln>
        </p:spPr>
      </p:pic>
      <p:pic>
        <p:nvPicPr>
          <p:cNvPr id="609" name="Picture 23" descr="Samuel Anthony Alito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5238720" y="5168880"/>
            <a:ext cx="917640" cy="1295280"/>
          </a:xfrm>
          <a:prstGeom prst="rect">
            <a:avLst/>
          </a:prstGeom>
          <a:ln w="0">
            <a:noFill/>
          </a:ln>
        </p:spPr>
      </p:pic>
      <p:pic>
        <p:nvPicPr>
          <p:cNvPr id="610" name="Picture 24" descr=""/>
          <p:cNvPicPr/>
          <p:nvPr/>
        </p:nvPicPr>
        <p:blipFill>
          <a:blip r:embed="rId11"/>
          <a:stretch/>
        </p:blipFill>
        <p:spPr>
          <a:xfrm>
            <a:off x="6291360" y="5122800"/>
            <a:ext cx="1127160" cy="1459080"/>
          </a:xfrm>
          <a:prstGeom prst="rect">
            <a:avLst/>
          </a:prstGeom>
          <a:ln w="0">
            <a:noFill/>
          </a:ln>
        </p:spPr>
      </p:pic>
      <p:pic>
        <p:nvPicPr>
          <p:cNvPr id="611" name="Picture 26" descr=""/>
          <p:cNvPicPr/>
          <p:nvPr/>
        </p:nvPicPr>
        <p:blipFill>
          <a:blip r:embed="rId12"/>
          <a:stretch/>
        </p:blipFill>
        <p:spPr>
          <a:xfrm>
            <a:off x="7456320" y="5078520"/>
            <a:ext cx="1071720" cy="14745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bbd71"/>
                </a:solidFill>
                <a:latin typeface="Times New Roman"/>
              </a:rPr>
              <a:t>Judicial Selection</a:t>
            </a:r>
            <a:endParaRPr b="0" lang="en-US" sz="36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14" name="Picture 4" descr="Robertsoath"/>
          <p:cNvPicPr/>
          <p:nvPr/>
        </p:nvPicPr>
        <p:blipFill>
          <a:blip r:embed="rId1"/>
          <a:stretch/>
        </p:blipFill>
        <p:spPr>
          <a:xfrm>
            <a:off x="762120" y="1447920"/>
            <a:ext cx="4572000" cy="3051000"/>
          </a:xfrm>
          <a:prstGeom prst="rect">
            <a:avLst/>
          </a:prstGeom>
          <a:ln w="0">
            <a:noFill/>
          </a:ln>
        </p:spPr>
      </p:pic>
      <p:pic>
        <p:nvPicPr>
          <p:cNvPr id="615" name="Picture 5" descr="Alitoswornin"/>
          <p:cNvPicPr/>
          <p:nvPr/>
        </p:nvPicPr>
        <p:blipFill>
          <a:blip r:embed="rId2"/>
          <a:stretch/>
        </p:blipFill>
        <p:spPr>
          <a:xfrm>
            <a:off x="4191120" y="3505320"/>
            <a:ext cx="4495680" cy="29937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bbd71"/>
                </a:solidFill>
                <a:latin typeface="Times New Roman"/>
              </a:rPr>
              <a:t>Judicial Selection</a:t>
            </a:r>
            <a:br>
              <a:rPr sz="4000"/>
            </a:b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No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formal qualifications for federal judg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Federal judges serve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“during good behavior”,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which generally means for lif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Why?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– allows judges to be free from political pressures when deciding cases (don’t have to worry about being re-elected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ay be removed from office through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impeachmen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and convic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12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federal judges impeached –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 7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found guilty and remove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r"/>
  </p:transition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4" dur="500"/>
                                        <p:tgtEl>
                                          <p:spTgt spid="6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9" dur="500"/>
                                        <p:tgtEl>
                                          <p:spTgt spid="6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4" dur="500"/>
                                        <p:tgtEl>
                                          <p:spTgt spid="6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6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Times New Roman"/>
              </a:rPr>
              <a:t>Judicial Selection:</a:t>
            </a:r>
            <a:br>
              <a:rPr sz="4000"/>
            </a:br>
            <a:r>
              <a:rPr b="0" lang="en-US" sz="4000" spc="-1" strike="noStrike">
                <a:solidFill>
                  <a:srgbClr val="dbbd71"/>
                </a:solidFill>
                <a:latin typeface="Times New Roman"/>
              </a:rPr>
              <a:t>Lower Courts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ident has little to do with choos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ue to large # of appointments, the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Department of Justic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and the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White House staff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handle most of these nominatio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Senatorial Courtesy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owing senators from president’s party who represents the state with the vacancy to approve or disapprove nomine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r"/>
  </p:transition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6" dur="500"/>
                                        <p:tgtEl>
                                          <p:spTgt spid="6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1" dur="500"/>
                                        <p:tgtEl>
                                          <p:spTgt spid="6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6" dur="500"/>
                                        <p:tgtEl>
                                          <p:spTgt spid="6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Times New Roman"/>
              </a:rPr>
              <a:t>Judicial Selection:</a:t>
            </a:r>
            <a:br>
              <a:rPr sz="4000"/>
            </a:br>
            <a:r>
              <a:rPr b="0" lang="en-US" sz="4000" spc="-1" strike="noStrike">
                <a:solidFill>
                  <a:srgbClr val="dbbd71"/>
                </a:solidFill>
                <a:latin typeface="Times New Roman"/>
              </a:rPr>
              <a:t>Supreme Court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President gives more attention to nominations to Supreme Court (higher visibility and importance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When making appointments, presidents often consider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Party affiliatio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–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hooses judges from their pol.part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Judicial philosoph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–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hooses judges who share their political ideolog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Race, gender, religion, reg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Judicial experience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–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revious experience as judge or attorne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“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litmus test”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–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hooses a judge based on their view on 1 single issue (ex. Abortion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Acceptability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–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hooses a judge who is non-controversial and will be easily confirmed by the Senat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r"/>
  </p:transition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3" dur="500"/>
                                        <p:tgtEl>
                                          <p:spTgt spid="6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8" dur="500"/>
                                        <p:tgtEl>
                                          <p:spTgt spid="6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3" dur="500"/>
                                        <p:tgtEl>
                                          <p:spTgt spid="6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8" dur="500"/>
                                        <p:tgtEl>
                                          <p:spTgt spid="6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3" dur="500"/>
                                        <p:tgtEl>
                                          <p:spTgt spid="6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8" dur="500"/>
                                        <p:tgtEl>
                                          <p:spTgt spid="6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Times New Roman"/>
              </a:rPr>
              <a:t>Background of Supreme Court Judges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Almost all federal judges hav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Had legal training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Held positions in governmen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Served as lawyers for leading law firm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Served as federal district attorney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Served as law school professor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Few African-Americans, Hispanics, or Wome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President Lyndon B. Johnson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appointed </a:t>
            </a: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first African American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Supreme Court Justice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Thurgood Marshal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President Ronald Reagan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appointed the </a:t>
            </a: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first female Supreme Court Justice, Sandra Day O’Conno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24" name="Picture 4" descr="aa_marshallthrgd_law_3_e"/>
          <p:cNvPicPr/>
          <p:nvPr/>
        </p:nvPicPr>
        <p:blipFill>
          <a:blip r:embed="rId1"/>
          <a:stretch/>
        </p:blipFill>
        <p:spPr>
          <a:xfrm>
            <a:off x="5348160" y="990720"/>
            <a:ext cx="1916280" cy="2361960"/>
          </a:xfrm>
          <a:prstGeom prst="rect">
            <a:avLst/>
          </a:prstGeom>
          <a:ln w="0">
            <a:noFill/>
          </a:ln>
        </p:spPr>
      </p:pic>
      <p:pic>
        <p:nvPicPr>
          <p:cNvPr id="625" name="Picture 5" descr="sandra-crop"/>
          <p:cNvPicPr/>
          <p:nvPr/>
        </p:nvPicPr>
        <p:blipFill>
          <a:blip r:embed="rId2"/>
          <a:stretch/>
        </p:blipFill>
        <p:spPr>
          <a:xfrm>
            <a:off x="6477120" y="2819520"/>
            <a:ext cx="2133360" cy="21333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5" dur="500"/>
                                        <p:tgtEl>
                                          <p:spTgt spid="6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0" dur="500"/>
                                        <p:tgtEl>
                                          <p:spTgt spid="62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7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2" dur="500"/>
                                        <p:tgtEl>
                                          <p:spTgt spid="62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9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Times New Roman"/>
              </a:rPr>
              <a:t>The Supreme Court At Work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en is the Supreme Court in session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Term of the Supreme Court begins on the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first Monday in Oct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. and generally lasts until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June or Jul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of the following yea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28" name="Picture 5" descr="U.S. Supreme Court, Courtroom"/>
          <p:cNvPicPr/>
          <p:nvPr/>
        </p:nvPicPr>
        <p:blipFill>
          <a:blip r:embed="rId1"/>
          <a:stretch/>
        </p:blipFill>
        <p:spPr>
          <a:xfrm>
            <a:off x="609480" y="2514600"/>
            <a:ext cx="4038840" cy="31860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bbd71"/>
                </a:solidFill>
                <a:latin typeface="Times New Roman"/>
              </a:rPr>
              <a:t>Introduction to the Judicial Branch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No judicial branch under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Articles of Confeder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tate courts had sole authority over all cases – major weakness of Articl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Judicial Branch created in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Article III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of the U.S. Constitu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nly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federal court created –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The U.S. Supreme Co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ives power to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Congres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o create any lower federal cour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54" name="Picture 5" descr="POLRES%20FedCrt"/>
          <p:cNvPicPr/>
          <p:nvPr/>
        </p:nvPicPr>
        <p:blipFill>
          <a:blip r:embed="rId1"/>
          <a:stretch/>
        </p:blipFill>
        <p:spPr>
          <a:xfrm>
            <a:off x="533520" y="4572000"/>
            <a:ext cx="2971800" cy="2133720"/>
          </a:xfrm>
          <a:prstGeom prst="rect">
            <a:avLst/>
          </a:prstGeom>
          <a:ln w="0">
            <a:noFill/>
          </a:ln>
        </p:spPr>
      </p:pic>
      <p:pic>
        <p:nvPicPr>
          <p:cNvPr id="555" name="Ink 6" descr=""/>
          <p:cNvPicPr/>
          <p:nvPr/>
        </p:nvPicPr>
        <p:blipFill>
          <a:blip r:embed="rId2"/>
          <a:stretch/>
        </p:blipFill>
        <p:spPr>
          <a:xfrm>
            <a:off x="4319640" y="2930400"/>
            <a:ext cx="1352520" cy="263520"/>
          </a:xfrm>
          <a:prstGeom prst="rect">
            <a:avLst/>
          </a:prstGeom>
          <a:ln w="0">
            <a:noFill/>
          </a:ln>
        </p:spPr>
      </p:pic>
      <p:pic>
        <p:nvPicPr>
          <p:cNvPr id="556" name="Ink 7" descr=""/>
          <p:cNvPicPr/>
          <p:nvPr/>
        </p:nvPicPr>
        <p:blipFill>
          <a:blip r:embed="rId3"/>
          <a:stretch/>
        </p:blipFill>
        <p:spPr>
          <a:xfrm>
            <a:off x="1917720" y="3352680"/>
            <a:ext cx="138240" cy="1011240"/>
          </a:xfrm>
          <a:prstGeom prst="rect">
            <a:avLst/>
          </a:prstGeom>
          <a:ln w="0">
            <a:noFill/>
          </a:ln>
        </p:spPr>
      </p:pic>
      <p:pic>
        <p:nvPicPr>
          <p:cNvPr id="557" name="Ink 8" descr=""/>
          <p:cNvPicPr/>
          <p:nvPr/>
        </p:nvPicPr>
        <p:blipFill>
          <a:blip r:embed="rId4"/>
          <a:stretch/>
        </p:blipFill>
        <p:spPr>
          <a:xfrm>
            <a:off x="3149640" y="4172040"/>
            <a:ext cx="1219320" cy="336600"/>
          </a:xfrm>
          <a:prstGeom prst="rect">
            <a:avLst/>
          </a:prstGeom>
          <a:ln w="0">
            <a:noFill/>
          </a:ln>
        </p:spPr>
      </p:pic>
      <p:pic>
        <p:nvPicPr>
          <p:cNvPr id="558" name="Ink 9" descr=""/>
          <p:cNvPicPr/>
          <p:nvPr/>
        </p:nvPicPr>
        <p:blipFill>
          <a:blip r:embed="rId5"/>
          <a:stretch/>
        </p:blipFill>
        <p:spPr>
          <a:xfrm>
            <a:off x="4935600" y="3676680"/>
            <a:ext cx="3254400" cy="371520"/>
          </a:xfrm>
          <a:prstGeom prst="rect">
            <a:avLst/>
          </a:prstGeom>
          <a:ln w="0">
            <a:noFill/>
          </a:ln>
        </p:spPr>
      </p:pic>
      <p:pic>
        <p:nvPicPr>
          <p:cNvPr id="559" name="Ink 10" descr=""/>
          <p:cNvPicPr/>
          <p:nvPr/>
        </p:nvPicPr>
        <p:blipFill>
          <a:blip r:embed="rId6"/>
          <a:stretch/>
        </p:blipFill>
        <p:spPr>
          <a:xfrm>
            <a:off x="4168800" y="1233360"/>
            <a:ext cx="3316320" cy="319320"/>
          </a:xfrm>
          <a:prstGeom prst="rect">
            <a:avLst/>
          </a:prstGeom>
          <a:ln w="0">
            <a:noFill/>
          </a:ln>
        </p:spPr>
      </p:pic>
      <p:pic>
        <p:nvPicPr>
          <p:cNvPr id="560" name="Ink 11" descr=""/>
          <p:cNvPicPr/>
          <p:nvPr/>
        </p:nvPicPr>
        <p:blipFill>
          <a:blip r:embed="rId7"/>
          <a:stretch/>
        </p:blipFill>
        <p:spPr>
          <a:xfrm>
            <a:off x="4151160" y="1198440"/>
            <a:ext cx="3351240" cy="416160"/>
          </a:xfrm>
          <a:prstGeom prst="rect">
            <a:avLst/>
          </a:prstGeom>
          <a:ln w="0">
            <a:noFill/>
          </a:ln>
        </p:spPr>
      </p:pic>
      <p:pic>
        <p:nvPicPr>
          <p:cNvPr id="561" name="Ink 12" descr=""/>
          <p:cNvPicPr/>
          <p:nvPr/>
        </p:nvPicPr>
        <p:blipFill>
          <a:blip r:embed="rId8"/>
          <a:stretch/>
        </p:blipFill>
        <p:spPr>
          <a:xfrm>
            <a:off x="4338720" y="2886120"/>
            <a:ext cx="1404720" cy="309600"/>
          </a:xfrm>
          <a:prstGeom prst="rect">
            <a:avLst/>
          </a:prstGeom>
          <a:ln w="0">
            <a:noFill/>
          </a:ln>
        </p:spPr>
      </p:pic>
      <p:pic>
        <p:nvPicPr>
          <p:cNvPr id="562" name="Ink 13" descr=""/>
          <p:cNvPicPr/>
          <p:nvPr/>
        </p:nvPicPr>
        <p:blipFill>
          <a:blip r:embed="rId9"/>
          <a:stretch/>
        </p:blipFill>
        <p:spPr>
          <a:xfrm>
            <a:off x="1890720" y="3362400"/>
            <a:ext cx="165240" cy="1011240"/>
          </a:xfrm>
          <a:prstGeom prst="rect">
            <a:avLst/>
          </a:prstGeom>
          <a:ln w="0">
            <a:noFill/>
          </a:ln>
        </p:spPr>
      </p:pic>
      <p:pic>
        <p:nvPicPr>
          <p:cNvPr id="563" name="Ink 14" descr=""/>
          <p:cNvPicPr/>
          <p:nvPr/>
        </p:nvPicPr>
        <p:blipFill>
          <a:blip r:embed="rId10"/>
          <a:stretch/>
        </p:blipFill>
        <p:spPr>
          <a:xfrm>
            <a:off x="4944960" y="3706920"/>
            <a:ext cx="3335400" cy="372960"/>
          </a:xfrm>
          <a:prstGeom prst="rect">
            <a:avLst/>
          </a:prstGeom>
          <a:ln w="0">
            <a:noFill/>
          </a:ln>
        </p:spPr>
      </p:pic>
      <p:pic>
        <p:nvPicPr>
          <p:cNvPr id="564" name="Ink 15" descr=""/>
          <p:cNvPicPr/>
          <p:nvPr/>
        </p:nvPicPr>
        <p:blipFill>
          <a:blip r:embed="rId11"/>
          <a:stretch/>
        </p:blipFill>
        <p:spPr>
          <a:xfrm>
            <a:off x="3159000" y="4135320"/>
            <a:ext cx="1200240" cy="3636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5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5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5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Times New Roman"/>
              </a:rPr>
              <a:t>The Supreme Court At Work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ow does the Supreme Court accept a case to review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Thousands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of cases are appealed to the Supreme Court every year- onl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few hundred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are actually hear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ost cases denied becaus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1.) Justices agree with the lower court decisio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2.) Justices believe the case does not involve a significant point of law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ases that are accepted must meet the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rule of fou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808000"/>
              </a:buClr>
              <a:buSzPct val="65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Four of the nine justices must agree to hear the cas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any of the cases accepted may be disposed of in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brief order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808000"/>
              </a:buClr>
              <a:buSzPct val="65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Returned to the lower court for reconsideration because of a related case which was recently decided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ases presented to the Supreme Court may be presented through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1.) Writ of Certiorari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– an order by the Court (when petitioned) directing a lower court to send up records of a case for review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2.)Certificate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– a lower court asks the Supreme Court about a rule of law or procedures in specific cas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r"/>
  </p:transition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6" dur="500"/>
                                        <p:tgtEl>
                                          <p:spTgt spid="6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9" dur="500"/>
                                        <p:tgtEl>
                                          <p:spTgt spid="6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4" dur="500"/>
                                        <p:tgtEl>
                                          <p:spTgt spid="6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9" dur="500"/>
                                        <p:tgtEl>
                                          <p:spTgt spid="6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4" dur="500"/>
                                        <p:tgtEl>
                                          <p:spTgt spid="6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9" dur="500"/>
                                        <p:tgtEl>
                                          <p:spTgt spid="6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4" dur="500"/>
                                        <p:tgtEl>
                                          <p:spTgt spid="6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9" dur="500"/>
                                        <p:tgtEl>
                                          <p:spTgt spid="6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4" dur="500"/>
                                        <p:tgtEl>
                                          <p:spTgt spid="6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9" dur="500"/>
                                        <p:tgtEl>
                                          <p:spTgt spid="63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4" dur="500"/>
                                        <p:tgtEl>
                                          <p:spTgt spid="63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9" dur="500"/>
                                        <p:tgtEl>
                                          <p:spTgt spid="63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Times New Roman"/>
              </a:rPr>
              <a:t>Briefs and Oral Arguments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nce a case reaches the Supreme Court, lawyers for each party file a written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brief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A detailed statement of the facts of the case supporting a particular position by presenting arguments based on relevant facts and citations from previous cas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Oral argument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allow both sides to present their positions to the justices during a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30 minute perio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Justices may interrupt lawyers during this time, raising questions or challenging points of law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r"/>
  </p:transition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6" dur="500"/>
                                        <p:tgtEl>
                                          <p:spTgt spid="6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1" dur="500"/>
                                        <p:tgtEl>
                                          <p:spTgt spid="6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nodeType="clickEffect" fill="hold">
                      <p:stCondLst>
                        <p:cond delay="indefinite"/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6" dur="500"/>
                                        <p:tgtEl>
                                          <p:spTgt spid="6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Times New Roman"/>
              </a:rPr>
              <a:t>Writing Opinions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upreme Court decisions are explained in a written statement called an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opin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f voting with the majority, the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chief justic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selects who will write the opin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f voting with the minority, the most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enior associate justic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of the majority selects who will write the opin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r"/>
  </p:transition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3" dur="500"/>
                                        <p:tgtEl>
                                          <p:spTgt spid="6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8" dur="500"/>
                                        <p:tgtEl>
                                          <p:spTgt spid="6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3" dur="500"/>
                                        <p:tgtEl>
                                          <p:spTgt spid="6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Times New Roman"/>
              </a:rPr>
              <a:t>Writing Opinions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3 Types of Opinions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1.) Majority Opinion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– opinion agreed upon by a majority of the justic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2.) Concurring Opinion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– written by a justice or justices who agree with the majority opinion, but not with the reasoning behind the decis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3.) Dissenting Opinion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– written by a justices or justices who disagree with the majority opin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ajority opinion become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precedent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Standards or guides to be followed in deciding similar cases in the futur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Ex. </a:t>
            </a:r>
            <a:r>
              <a:rPr b="0" i="1" lang="en-US" sz="2000" spc="-1" strike="noStrike">
                <a:solidFill>
                  <a:srgbClr val="ffff00"/>
                </a:solidFill>
                <a:latin typeface="Times New Roman"/>
              </a:rPr>
              <a:t>Roe v. Wade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(abortion),</a:t>
            </a:r>
            <a:r>
              <a:rPr b="0" i="1" lang="en-US" sz="2000" spc="-1" strike="noStrike">
                <a:solidFill>
                  <a:srgbClr val="ffff00"/>
                </a:solidFill>
                <a:latin typeface="Times New Roman"/>
              </a:rPr>
              <a:t> Mapp v. Ohio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(exclusionary rule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r"/>
  </p:transition>
  <p:timing>
    <p:tnLst>
      <p:par>
        <p:cTn id="494" dur="indefinite" restart="never" nodeType="tmRoot">
          <p:childTnLst>
            <p:seq>
              <p:cTn id="495" dur="indefinite" nodeType="mainSeq">
                <p:childTnLst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0" dur="500"/>
                                        <p:tgtEl>
                                          <p:spTgt spid="6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5" dur="500"/>
                                        <p:tgtEl>
                                          <p:spTgt spid="6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nodeType="clickEffect" fill="hold">
                      <p:stCondLst>
                        <p:cond delay="indefinite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0" dur="500"/>
                                        <p:tgtEl>
                                          <p:spTgt spid="6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5" dur="500"/>
                                        <p:tgtEl>
                                          <p:spTgt spid="6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0" dur="500"/>
                                        <p:tgtEl>
                                          <p:spTgt spid="6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3" dur="500"/>
                                        <p:tgtEl>
                                          <p:spTgt spid="6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Times New Roman"/>
              </a:rPr>
              <a:t>Supreme Courts Through History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Warren Court (1953-1969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ed by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Chief Justice Earl War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Often said to be the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“most liberal court ever”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ant cases decide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Times New Roman"/>
              </a:rPr>
              <a:t>Brown v. Board of Education (1954)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 –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ended segregation in public school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Times New Roman"/>
              </a:rPr>
              <a:t>Gideon v. Wainwright (1963)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– states required to provide attorneys for those accused of a crim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Times New Roman"/>
              </a:rPr>
              <a:t>Miranda v. Arizona (1966)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 –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olice have to inform anyone questioned of their rights in order to use the information in cour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39" name="Picture 4" descr="asset_upload_file983_12268"/>
          <p:cNvPicPr/>
          <p:nvPr/>
        </p:nvPicPr>
        <p:blipFill>
          <a:blip r:embed="rId1"/>
          <a:stretch/>
        </p:blipFill>
        <p:spPr>
          <a:xfrm>
            <a:off x="990720" y="4191120"/>
            <a:ext cx="2438280" cy="24382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Times New Roman"/>
              </a:rPr>
              <a:t>Supreme Courts Through History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Burger Court (1969-1986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ed by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Chief Justice Warren Burge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eturned the Supreme Court to a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more conservative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ideolog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ppointed by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Richard Nix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ant cases decided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Times New Roman"/>
              </a:rPr>
              <a:t>Roe v. Wade (1973)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– declared abortions legal with special time constraint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Times New Roman"/>
              </a:rPr>
              <a:t>U.S. v. Nixon (1974)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–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ruled that President Nixon’s private recordings were not protected under presidential privilege and ordered them be turned over to the house investigator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42" name="Picture 4" descr="pf041950"/>
          <p:cNvPicPr/>
          <p:nvPr/>
        </p:nvPicPr>
        <p:blipFill>
          <a:blip r:embed="rId1"/>
          <a:stretch/>
        </p:blipFill>
        <p:spPr>
          <a:xfrm>
            <a:off x="5638680" y="4343400"/>
            <a:ext cx="1874880" cy="23623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Times New Roman"/>
              </a:rPr>
              <a:t>Supreme Courts Through History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Rehnquist Court (1986-2005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ed by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Chief Justice William Rehnquis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Conservative court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that continued to limit, but not reverse, decisions of earlier more liberal courts in the areas of defendant’s rights, abortion, and affirmative act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ant cases decide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Times New Roman"/>
              </a:rPr>
              <a:t>Planned Parenthood v. Casey (1992)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 –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upheld and ruled constitutional a Pennsylvania law requiring a minor to wait 24 hours after receiving parental approval before getting an abortion – but ruled unconstitutional a provision that required a woman to obtain “informed spousal consent”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before having an abortio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Times New Roman"/>
              </a:rPr>
              <a:t>Roper v. Simmons (2004)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 –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declared that the death penalty was unconstitutional for anyone under the age of 18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45" name="Picture 4" descr="230px-William_Rehnquist"/>
          <p:cNvPicPr/>
          <p:nvPr/>
        </p:nvPicPr>
        <p:blipFill>
          <a:blip r:embed="rId1"/>
          <a:stretch/>
        </p:blipFill>
        <p:spPr>
          <a:xfrm>
            <a:off x="4495680" y="4876920"/>
            <a:ext cx="1430280" cy="18288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Times New Roman"/>
              </a:rPr>
              <a:t>Judicial Philosophy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2 Type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1.) Judicial Activis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he court should play a more active role in creating national policies and answering questions of conflict in societ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2.) Judicial Restrain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he court should operate strictly within the limits of the Constitution and only answer questions if a clear violation of the Constitution is present. Policy making should be left up to the executive and legislative branche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r"/>
  </p:transition>
  <p:timing>
    <p:tnLst>
      <p:par>
        <p:cTn id="524" dur="indefinite" restart="never" nodeType="tmRoot">
          <p:childTnLst>
            <p:seq>
              <p:cTn id="525" dur="indefinite" nodeType="mainSeq">
                <p:childTnLst>
                  <p:par>
                    <p:cTn id="526" nodeType="clickEffect" fill="hold">
                      <p:stCondLst>
                        <p:cond delay="indefinite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0" dur="500"/>
                                        <p:tgtEl>
                                          <p:spTgt spid="6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nodeType="clickEffect" fill="hold">
                      <p:stCondLst>
                        <p:cond delay="indefinite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5" dur="500"/>
                                        <p:tgtEl>
                                          <p:spTgt spid="6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650" name="Picture 9" descr="taf2"/>
          <p:cNvPicPr/>
          <p:nvPr/>
        </p:nvPicPr>
        <p:blipFill>
          <a:blip r:embed="rId1"/>
          <a:stretch/>
        </p:blipFill>
        <p:spPr>
          <a:xfrm>
            <a:off x="990720" y="1143000"/>
            <a:ext cx="4876560" cy="48196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5" name="Picture 5" descr="Checks%20and%20Balances"/>
          <p:cNvPicPr/>
          <p:nvPr/>
        </p:nvPicPr>
        <p:blipFill>
          <a:blip r:embed="rId1"/>
          <a:stretch/>
        </p:blipFill>
        <p:spPr>
          <a:xfrm>
            <a:off x="1523880" y="228600"/>
            <a:ext cx="6115320" cy="6248520"/>
          </a:xfrm>
          <a:prstGeom prst="rect">
            <a:avLst/>
          </a:prstGeom>
          <a:ln w="0">
            <a:noFill/>
          </a:ln>
        </p:spPr>
      </p:pic>
      <p:pic>
        <p:nvPicPr>
          <p:cNvPr id="566" name="Ink 6" descr=""/>
          <p:cNvPicPr/>
          <p:nvPr/>
        </p:nvPicPr>
        <p:blipFill>
          <a:blip r:embed="rId2"/>
          <a:stretch/>
        </p:blipFill>
        <p:spPr>
          <a:xfrm>
            <a:off x="3971880" y="5172120"/>
            <a:ext cx="1424160" cy="264960"/>
          </a:xfrm>
          <a:prstGeom prst="rect">
            <a:avLst/>
          </a:prstGeom>
          <a:ln w="0">
            <a:noFill/>
          </a:ln>
        </p:spPr>
      </p:pic>
      <p:pic>
        <p:nvPicPr>
          <p:cNvPr id="567" name="Ink 7" descr=""/>
          <p:cNvPicPr/>
          <p:nvPr/>
        </p:nvPicPr>
        <p:blipFill>
          <a:blip r:embed="rId3"/>
          <a:stretch/>
        </p:blipFill>
        <p:spPr>
          <a:xfrm>
            <a:off x="4346640" y="5375160"/>
            <a:ext cx="807840" cy="250920"/>
          </a:xfrm>
          <a:prstGeom prst="rect">
            <a:avLst/>
          </a:prstGeom>
          <a:ln w="0">
            <a:noFill/>
          </a:ln>
        </p:spPr>
      </p:pic>
      <p:pic>
        <p:nvPicPr>
          <p:cNvPr id="568" name="Ink 8" descr=""/>
          <p:cNvPicPr/>
          <p:nvPr/>
        </p:nvPicPr>
        <p:blipFill>
          <a:blip r:embed="rId4"/>
          <a:stretch/>
        </p:blipFill>
        <p:spPr>
          <a:xfrm>
            <a:off x="4267080" y="5546880"/>
            <a:ext cx="922320" cy="282600"/>
          </a:xfrm>
          <a:prstGeom prst="rect">
            <a:avLst/>
          </a:prstGeom>
          <a:ln w="0">
            <a:noFill/>
          </a:ln>
        </p:spPr>
      </p:pic>
      <p:pic>
        <p:nvPicPr>
          <p:cNvPr id="569" name="Ink 9" descr=""/>
          <p:cNvPicPr/>
          <p:nvPr/>
        </p:nvPicPr>
        <p:blipFill>
          <a:blip r:embed="rId5"/>
          <a:stretch/>
        </p:blipFill>
        <p:spPr>
          <a:xfrm>
            <a:off x="4213080" y="5672160"/>
            <a:ext cx="1022400" cy="291960"/>
          </a:xfrm>
          <a:prstGeom prst="rect">
            <a:avLst/>
          </a:prstGeom>
          <a:ln w="0">
            <a:noFill/>
          </a:ln>
        </p:spPr>
      </p:pic>
      <p:pic>
        <p:nvPicPr>
          <p:cNvPr id="570" name="Ink 10" descr=""/>
          <p:cNvPicPr/>
          <p:nvPr/>
        </p:nvPicPr>
        <p:blipFill>
          <a:blip r:embed="rId6"/>
          <a:stretch/>
        </p:blipFill>
        <p:spPr>
          <a:xfrm>
            <a:off x="4230720" y="5832360"/>
            <a:ext cx="950760" cy="292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Times New Roman"/>
              </a:rPr>
              <a:t>Introduction to the Judicial Branch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U.S. Court System Toda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.S. has a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dual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ystem of court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Federal Court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–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andle criminal and civil cases involving federal law or any constitutional issu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State Court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–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andle criminal and civil cases involving state law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3" name="Rectangle 4"/>
          <p:cNvSpPr/>
          <p:nvPr/>
        </p:nvSpPr>
        <p:spPr>
          <a:xfrm>
            <a:off x="1905120" y="4419720"/>
            <a:ext cx="5715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Criminal Case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–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overnment or state charges an individual with violating one or more law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Civil Case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–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overnment or state resolves a dispute between two partie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(ex.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Runaway Jur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5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5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5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5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bbd71"/>
                </a:solidFill>
                <a:latin typeface="Times New Roman"/>
              </a:rPr>
              <a:t>Introduction to the Judicial Branch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Federal Court Structur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Supreme Court –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reated by the Constitut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Federal District Courts –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reated by Congress through the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Judiciary Act of 1789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 -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ct as federal trial court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U.S. Court of Appeals –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reated by Congress in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1891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–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ct as federal appeal court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76" name="Picture 4" descr="fig1"/>
          <p:cNvPicPr/>
          <p:nvPr/>
        </p:nvPicPr>
        <p:blipFill>
          <a:blip r:embed="rId1"/>
          <a:stretch/>
        </p:blipFill>
        <p:spPr>
          <a:xfrm>
            <a:off x="1447920" y="3192480"/>
            <a:ext cx="6172200" cy="3408480"/>
          </a:xfrm>
          <a:prstGeom prst="rect">
            <a:avLst/>
          </a:prstGeom>
          <a:ln w="0">
            <a:noFill/>
          </a:ln>
        </p:spPr>
      </p:pic>
      <p:pic>
        <p:nvPicPr>
          <p:cNvPr id="577" name="Ink 5" descr=""/>
          <p:cNvPicPr/>
          <p:nvPr/>
        </p:nvPicPr>
        <p:blipFill>
          <a:blip r:embed="rId2"/>
          <a:stretch/>
        </p:blipFill>
        <p:spPr>
          <a:xfrm>
            <a:off x="3857760" y="6000840"/>
            <a:ext cx="492120" cy="233280"/>
          </a:xfrm>
          <a:prstGeom prst="rect">
            <a:avLst/>
          </a:prstGeom>
          <a:ln w="0">
            <a:noFill/>
          </a:ln>
        </p:spPr>
      </p:pic>
      <p:pic>
        <p:nvPicPr>
          <p:cNvPr id="578" name="Ink 6" descr=""/>
          <p:cNvPicPr/>
          <p:nvPr/>
        </p:nvPicPr>
        <p:blipFill>
          <a:blip r:embed="rId3"/>
          <a:stretch/>
        </p:blipFill>
        <p:spPr>
          <a:xfrm>
            <a:off x="3784680" y="3440160"/>
            <a:ext cx="1530360" cy="272880"/>
          </a:xfrm>
          <a:prstGeom prst="rect">
            <a:avLst/>
          </a:prstGeom>
          <a:ln w="0">
            <a:noFill/>
          </a:ln>
        </p:spPr>
      </p:pic>
      <p:pic>
        <p:nvPicPr>
          <p:cNvPr id="579" name="Ink 7" descr=""/>
          <p:cNvPicPr/>
          <p:nvPr/>
        </p:nvPicPr>
        <p:blipFill>
          <a:blip r:embed="rId4"/>
          <a:stretch/>
        </p:blipFill>
        <p:spPr>
          <a:xfrm>
            <a:off x="4168800" y="4635360"/>
            <a:ext cx="771480" cy="263520"/>
          </a:xfrm>
          <a:prstGeom prst="rect">
            <a:avLst/>
          </a:prstGeom>
          <a:ln w="0">
            <a:noFill/>
          </a:ln>
        </p:spPr>
      </p:pic>
      <p:pic>
        <p:nvPicPr>
          <p:cNvPr id="580" name="Ink 8" descr=""/>
          <p:cNvPicPr/>
          <p:nvPr/>
        </p:nvPicPr>
        <p:blipFill>
          <a:blip r:embed="rId5"/>
          <a:stretch/>
        </p:blipFill>
        <p:spPr>
          <a:xfrm>
            <a:off x="4141800" y="4867200"/>
            <a:ext cx="852480" cy="249480"/>
          </a:xfrm>
          <a:prstGeom prst="rect">
            <a:avLst/>
          </a:prstGeom>
          <a:ln w="0">
            <a:noFill/>
          </a:ln>
        </p:spPr>
      </p:pic>
      <p:pic>
        <p:nvPicPr>
          <p:cNvPr id="581" name="Ink 9" descr=""/>
          <p:cNvPicPr/>
          <p:nvPr/>
        </p:nvPicPr>
        <p:blipFill>
          <a:blip r:embed="rId6"/>
          <a:stretch/>
        </p:blipFill>
        <p:spPr>
          <a:xfrm>
            <a:off x="4338720" y="5931000"/>
            <a:ext cx="601560" cy="247680"/>
          </a:xfrm>
          <a:prstGeom prst="rect">
            <a:avLst/>
          </a:prstGeom>
          <a:ln w="0">
            <a:noFill/>
          </a:ln>
        </p:spPr>
      </p:pic>
      <p:pic>
        <p:nvPicPr>
          <p:cNvPr id="582" name="Ink 10" descr=""/>
          <p:cNvPicPr/>
          <p:nvPr/>
        </p:nvPicPr>
        <p:blipFill>
          <a:blip r:embed="rId7"/>
          <a:stretch/>
        </p:blipFill>
        <p:spPr>
          <a:xfrm>
            <a:off x="4248000" y="6127920"/>
            <a:ext cx="709920" cy="2728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5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5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5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Times New Roman"/>
              </a:rPr>
              <a:t>What is a Federal Crime?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41907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Federal Crime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: a crime that is either made illegal by U.S. federal legislation or a crime that occurs on U.S. federal property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Murder during a hostage-taking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Murder with the intent of preventing testimony by a witness, victim, or informant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Mailing of injurious articles with intent to kill or resulting in death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Murder for hire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Bank-robbery-related murder or kidnapping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Murder by the use of a weapon of mass destruction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Trafficking in large quantities of drugs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Treason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495320" y="1066680"/>
            <a:ext cx="403884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Murder related to the smuggling of illegal immigrant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Murder committed during a drug-related drive-by shooting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Murder committed at an airport serving international civil aviation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Civil rights offenses resulting in death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Murder of a member of Congress, an important executive official, or a Supreme Court Justice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Murder committed by the use of a firearm during a crime of violence or a drug trafficking crim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Murder of a U.S. national in a foreign country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Murder during a kidnapping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Murder involving torture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Espionag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Hijacking of airplan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r"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5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5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5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5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5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5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5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5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5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5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5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5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5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5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5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5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5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5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5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5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5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5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5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Times New Roman"/>
              </a:rPr>
              <a:t>Federal Court Jurisdiction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815328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What is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Jurisdiction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The authority of the courts to hear certain cas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00"/>
                </a:solidFill>
                <a:uFillTx/>
                <a:latin typeface="Times New Roman"/>
              </a:rPr>
              <a:t>Types of Federal Jurisdict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1.)</a:t>
            </a: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Original Jurisdiction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uthority to hear a case for the first tim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rials are conducted, evidence is presented, and juries determine outcome of cas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Federal District Courts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and the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Supreme Court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(in certain cases) have original jurisdict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2.)</a:t>
            </a: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Appellate Jurisdictio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ourts that hear reviews or appeals of decisions from the lower court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Federal Courts of Appeals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and the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Supreme Court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have appellate jurisdict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3.) Concurrent Jurisdictio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llows certain types of cases to be tried in either the federal or state court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r"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5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5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500"/>
                                        <p:tgtEl>
                                          <p:spTgt spid="5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5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" dur="500"/>
                                        <p:tgtEl>
                                          <p:spTgt spid="5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" dur="500"/>
                                        <p:tgtEl>
                                          <p:spTgt spid="5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5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5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58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Times New Roman"/>
              </a:rPr>
              <a:t>Types of Federal Courts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1.) District Cour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created by the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Judiciary Act of 1789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Federal trial court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Every state has at least one;  more people = more district courts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(GA has 3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Currently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94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district courts (w/ over 550 judge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Have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original jurisdictio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ONL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– no appellate jurisdict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Decide civil and criminal cases arising under the Constitution and federal law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Judges serve for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life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– appointed by President of U.S. and confirmed by Senat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Can only be removed by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impeachment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with a guilty verdic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r"/>
  </p:transition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0" dur="500"/>
                                        <p:tgtEl>
                                          <p:spTgt spid="5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5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0" dur="500"/>
                                        <p:tgtEl>
                                          <p:spTgt spid="5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5" dur="500"/>
                                        <p:tgtEl>
                                          <p:spTgt spid="5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5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" dur="500"/>
                                        <p:tgtEl>
                                          <p:spTgt spid="5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500"/>
                                        <p:tgtEl>
                                          <p:spTgt spid="5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5" dur="500"/>
                                        <p:tgtEl>
                                          <p:spTgt spid="5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Times New Roman"/>
              </a:rPr>
              <a:t>Participants in the Judicial System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lled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Litigan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Plaintiff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he party bringing the charg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Defendant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he party being accused or charge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Jur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12 people who decide the outcome of the tri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92" name="Picture 5" descr="gavel"/>
          <p:cNvPicPr/>
          <p:nvPr/>
        </p:nvPicPr>
        <p:blipFill>
          <a:blip r:embed="rId1"/>
          <a:stretch/>
        </p:blipFill>
        <p:spPr>
          <a:xfrm>
            <a:off x="685800" y="3124080"/>
            <a:ext cx="2962440" cy="32004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04T00:57:42Z</dcterms:created>
  <dc:creator>E200500973</dc:creator>
  <dc:description/>
  <dc:language>en-US</dc:language>
  <cp:lastModifiedBy>Anderson, Jacquelyn</cp:lastModifiedBy>
  <dcterms:modified xsi:type="dcterms:W3CDTF">2011-04-28T17:12:46Z</dcterms:modified>
  <cp:revision>14</cp:revision>
  <dc:subject/>
  <dc:title>The Judicial Branch</dc:title>
</cp:coreProperties>
</file>